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89345"/>
        <c:axId val="74477254"/>
      </c:barChart>
      <c:catAx>
        <c:axId val="42089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77254"/>
        <c:crosses val="autoZero"/>
        <c:auto val="1"/>
        <c:lblAlgn val="ctr"/>
        <c:lblOffset val="100"/>
        <c:noMultiLvlLbl val="0"/>
      </c:catAx>
      <c:valAx>
        <c:axId val="74477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89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93B-9A3A-4E09-A2AC-1B1924FB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3B8-8451-4084-AC8E-28942CF4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B7A-480F-44EA-B71A-26954D32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484-170A-4509-92C5-FD6BB90C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9CA-C22E-44BC-B49F-7D81D41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001-6371-4759-93CA-F70C61E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14B-83BD-4468-8D2D-B8376AD0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401-2E6D-4E27-B858-EEB7415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AC0-8286-4114-944E-8510511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9D8-14AE-4164-92DB-576027C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BF9-1061-42C6-B60C-5AC58BFB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834-1143-46B5-9F08-A4144C93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B3E7F-C33B-457B-95D3-8A0114CB45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