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238261"/>
        <c:axId val="50623670"/>
      </c:barChart>
      <c:catAx>
        <c:axId val="99238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23670"/>
        <c:crosses val="autoZero"/>
        <c:auto val="1"/>
        <c:lblAlgn val="ctr"/>
        <c:lblOffset val="100"/>
        <c:noMultiLvlLbl val="0"/>
      </c:catAx>
      <c:valAx>
        <c:axId val="506236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38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7A49-CB03-4652-9DDF-8B5083B9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5D63-52DD-4833-A5D1-D7B1D577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C0E3-A159-42AD-9278-508ED14F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85ED-93E3-44E9-B457-50944812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EE10-133D-4799-B8EF-48CEE2BD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5AFE-D6FF-477A-84F8-EA1D98E7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9A6F-4B55-4F63-AB54-60DC0A39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9C85-359F-493F-A310-D437C040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EE6D-7C5C-4AD5-9C32-1F8AD6F6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E93D-D8DE-4215-9B6B-974090EC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BB24-E1C8-44F0-B759-1D02E087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75C-90A9-403D-A119-0CEB6B1F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AF042-53A7-4AD9-8B82-DEC70D1264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