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09330"/>
        <c:axId val="28647785"/>
      </c:barChart>
      <c:catAx>
        <c:axId val="80909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47785"/>
        <c:crosses val="autoZero"/>
        <c:auto val="1"/>
        <c:lblAlgn val="ctr"/>
        <c:lblOffset val="100"/>
        <c:noMultiLvlLbl val="0"/>
      </c:catAx>
      <c:valAx>
        <c:axId val="28647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9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D91-878C-46EC-B23B-5D837FB6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32A-0296-4F6A-8CFF-8DC7A04A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7BE-558E-4C08-9A51-074F086B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69E-3924-4337-A7F6-42F83C3D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DAA-D05F-42AF-85CF-8B4AB37A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511-033A-4DFB-AFD5-C3826158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353-92F5-4389-9CDE-EADBC93B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426-D53D-412E-BF81-0C0449E2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ADF-C64A-4E42-B23B-8823466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6F0-CAB6-4663-94A0-6C8F2987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D87-C41A-4FCB-9626-716A2B34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7B4-95EB-4CD4-A143-591F8898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84696-7F60-4306-84E1-2E63407FB2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