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71192"/>
        <c:axId val="51660142"/>
      </c:barChart>
      <c:catAx>
        <c:axId val="10471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60142"/>
        <c:crosses val="autoZero"/>
        <c:auto val="1"/>
        <c:lblAlgn val="ctr"/>
        <c:lblOffset val="100"/>
        <c:noMultiLvlLbl val="0"/>
      </c:catAx>
      <c:valAx>
        <c:axId val="51660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71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EF8-584B-4193-B6B1-5842A123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670-2480-43AB-839A-9DD5E3F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D73-F6E4-4CC2-9DC7-D09BA4DE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D88-040B-40DD-B669-A6282BDA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560-81A7-4C7F-87AA-CADA5D9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D3A-7FF4-4A24-AAB0-A1FF442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F25-2942-47AD-B23E-9FDCFC58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978-F9F2-4AEC-A48A-60C90A8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BB1-11F1-4840-BE96-F63CDB8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022-F091-4B40-883A-06E5E28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88D-76EE-49DF-A343-839AC6B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6A0-EE5D-4436-AEA4-39C80E8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0680-44FC-4ADC-99D1-527516E291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